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315200" cy="96012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310-FFA2-4096-8727-A126931D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040" y="555048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852-64BB-4EE2-B25C-053FCA7C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F70-4D1C-48F5-AA50-55A445C1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04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057-8AAA-40C0-8387-6835ADC5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075-6E20-4A03-87C7-0546DF9C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2F5-0600-4076-8E96-F852360A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BA8-0E66-4892-B115-EB8DDA18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433-7762-4370-9EBF-F9E2C3F7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040" y="383760"/>
            <a:ext cx="6585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AEC-BBB4-4641-B166-15A6910C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91A-1C71-47C2-99F0-5496DA3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F8C-DD16-4E96-9AE7-87A8E449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7D8-0AD8-46FC-8127-3B0C23F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4680" y="8744040"/>
            <a:ext cx="17082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44040"/>
            <a:ext cx="23176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44040"/>
            <a:ext cx="17082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1A8E-A08C-4882-9E0A-F88B0E161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21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Calisto MT"/>
              </a:rPr>
              <a:t>Fun </a:t>
            </a:r>
            <a:br>
              <a:rPr sz="8800"/>
            </a:br>
            <a:r>
              <a:rPr b="1" lang="en-US" sz="8800" spc="-1" strike="noStrike">
                <a:solidFill>
                  <a:srgbClr val="0000ff"/>
                </a:solidFill>
                <a:latin typeface="Calisto MT"/>
              </a:rPr>
              <a:t>in the </a:t>
            </a:r>
            <a:br>
              <a:rPr sz="8800"/>
            </a:br>
            <a:r>
              <a:rPr b="1" lang="en-US" sz="8800" spc="-1" strike="noStrike">
                <a:solidFill>
                  <a:srgbClr val="0000ff"/>
                </a:solidFill>
                <a:latin typeface="Calisto MT"/>
              </a:rPr>
              <a:t>Tunnel</a:t>
            </a:r>
            <a:br>
              <a:rPr sz="12900"/>
            </a:br>
            <a:br>
              <a:rPr sz="4000"/>
            </a:br>
            <a:endParaRPr b="0" lang="en-US" sz="8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4876920"/>
            <a:ext cx="487692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641664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One day </a:t>
            </a:r>
            <a:r>
              <a:rPr b="0" lang="en-US" sz="4400" spc="-1" strike="noStrike">
                <a:solidFill>
                  <a:srgbClr val="ff00ff"/>
                </a:solidFill>
                <a:latin typeface="Calisto MT"/>
              </a:rPr>
              <a:t>Teacher name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put the tunnel out.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me and play!”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Calisto MT"/>
              </a:rPr>
              <a:t>Teacher name</a:t>
            </a: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 called!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26049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alisto MT"/>
              </a:rPr>
              <a:t>Insert Teacher pictu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65040" y="380880"/>
            <a:ext cx="6569280" cy="88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So in crawled </a:t>
            </a:r>
            <a:r>
              <a:rPr b="0" lang="en-US" sz="4000" spc="-1" strike="noStrike">
                <a:solidFill>
                  <a:srgbClr val="ff00ff"/>
                </a:solidFill>
                <a:latin typeface="Calisto MT"/>
              </a:rPr>
              <a:t>child’s name</a:t>
            </a: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Come and play!”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alisto MT"/>
              </a:rPr>
              <a:t>child’s name</a:t>
            </a: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 called.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alisto MT"/>
              </a:rPr>
              <a:t>Note: Insert as many duplicate copies of this page as you will nee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6553440" cy="4913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86200" y="4038480"/>
            <a:ext cx="2057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alisto MT"/>
              </a:rPr>
              <a:t>Insert Child’s Pictu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5040" y="380880"/>
            <a:ext cx="6569280" cy="81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ere are so many 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friends in the tunnel!  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Oh my!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6553440" cy="491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19047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4680" y="457200"/>
            <a:ext cx="6264360" cy="86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So many friends 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d so little room. 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Calisto MT"/>
              </a:rPr>
              <a:t>Teacher’s name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had to sneeze and they all came tumbling out!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Oh my!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6248520" cy="4684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8120" y="4648320"/>
            <a:ext cx="2286000" cy="1770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14600" y="6095880"/>
            <a:ext cx="1905120" cy="147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343400" y="6172200"/>
            <a:ext cx="19051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3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2286000"/>
            <a:ext cx="5257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pperplate Gothic Bold"/>
              </a:rPr>
              <a:t>The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pperplate Gothic Bold"/>
              </a:rPr>
              <a:t>End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5:17:50Z</dcterms:created>
  <dc:creator>Amy Novak</dc:creator>
  <dc:description/>
  <dc:language>en-US</dc:language>
  <cp:lastModifiedBy>Patti Porto</cp:lastModifiedBy>
  <dcterms:modified xsi:type="dcterms:W3CDTF">2008-01-24T17:13:15Z</dcterms:modified>
  <cp:revision>44</cp:revision>
  <dc:subject/>
  <dc:title> There are so many      friends in the tunnel!</dc:title>
</cp:coreProperties>
</file>